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57E-C9B5-418C-BC5A-84648E2A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904-8F24-40DF-9DAB-DA0195AF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F06-9DE2-4CDE-A39F-2A7D7949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E7B-E2A8-4C62-90FB-BC1FB689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A6D-E96C-48FA-82E8-CB7E008B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1116-88AC-41F0-9F99-F7911A54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FCF9-F8B1-4005-A678-8C1D3C7E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58D-2F81-45ED-9321-AB6CBE06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512E-6392-4278-8C48-2B781D2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4A13-8B05-496D-ACC6-AE3A98C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1903-9263-495F-BD79-AB6CBF1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D8C-FF0A-44DA-99CB-0196D90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029F-D1ED-4870-905B-39ED448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303-0AB6-4709-90DE-8194C44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7B34-4120-4EE9-A655-901DD88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E88-8F1B-4913-A187-5374DB20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33DE-FDBD-4100-9D3F-91E7B69C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D45A-C035-4B85-B5FB-26D1335E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53F8-E2CB-4BE8-B965-AA1EC280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89A7-C805-4925-87CD-8B14DF9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BE12-6EF8-4D2A-B47C-7F8C4CF6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889E-57CA-4D0A-BE97-54325B94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812-0BC3-40E7-823A-3BE22A5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2626-C8E5-4CC8-A174-3B73F77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456D-6727-418E-B023-B035CFF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075-0FB8-4D72-A0A9-3F71BD5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F89F-B55A-4117-845B-5E20540D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021A-51EB-48AC-8EAA-060B70E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2891-CB3A-4E14-B184-7B648C9B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6FD8-79EB-464E-B82D-D12556D6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3D6C-C101-4A29-BDB3-DF746454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BB91-6497-46B8-AAED-5E565A07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90AC-A473-4004-9B2F-AF9166BD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6DF-5F88-437F-8069-0126557F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9A90-2C72-49A7-837B-F19730EC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FF5D-0670-4EC1-BB25-3485AB1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7910-55B3-4DA8-BEC2-1CAFE3EC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5317-CFCE-4E05-B1A0-657A205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EB3B-B518-443C-855A-67483CA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13D4-652E-4737-9447-2088333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4A99-0D45-4E28-9DBB-A8E5E55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4670-FE4D-4CFE-ABEB-5AB1B0BB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8F21-1D0E-48F6-97FC-67A56125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78C0-B6FA-4995-94AA-1FB3F10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81A-8491-4B95-B1FE-8D36DCE0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AE57-0F9A-4A9B-BDEB-A32C8F61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F100-CE8E-4E7A-8767-4D57B21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0DEE-BC06-4443-887F-CBFB9312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68D5A-4476-4C7E-A672-5BF01AFE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1643-654D-42FE-98BA-E8652866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DC7A-29A5-4C53-A8C7-94E41EC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A123-9493-43D8-9A1F-340A5AB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3656-FF4F-4E89-B867-CB725C9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3990-9FA2-47A9-91A3-433E7B2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D6E5-990F-4699-9D87-1291A96B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10C-8AE4-4BB0-B6D5-67C3095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DE3F-1CC8-478A-8838-B9FCFD32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B69C-BF82-423E-998D-944133BB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C818-DDF7-4E66-8BDE-5D297125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F7F8-7F3E-4740-9740-330731CB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67E74-E7BF-4562-89AD-BBA8F33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56D9-F7B0-4A20-A30F-532DE6FF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03F32-D66F-4AC4-B434-E8F8729B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B863-65EF-4D14-AFD2-B17376C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97C35-F362-4E86-B40F-F7D59A6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5510-C1A2-4DCC-BC9E-2C27498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181-C5CB-487A-B565-9E68AC2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43EB-3018-494C-AA74-F3ECAB0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619B-8D2C-4375-93F6-9B835A98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43B6-2817-41ED-B082-E02D6365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18B3B-F382-42A3-BF6F-5295A6BD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7A90-7B53-444E-8237-C5E727C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CD4E-DF3F-4EC9-8749-E14B3935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BD81-3177-4AA3-9952-EC716423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AE25-FF9D-42B1-BADC-C6D7E8D4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3625C-B44E-45EA-801A-8B79CD9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0012B-BDC7-4774-8AF9-5C49F38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7DF-3EEF-4287-BE44-223DE871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C306B-01FF-4E4B-803F-570A8148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8BA9E-8F30-48C7-914D-7160BA2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32F1-C22B-4887-BB39-E0629016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A941-BE30-456B-B89F-51A77EEC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4AD04-F9BD-437B-817F-F0754AB6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AA6-0B6D-47B4-B902-29B8658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8DC42-8A7B-48C8-8973-3362BA330D2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C6816-B4DB-4209-BBD5-50DD13E1ED3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99D0B-94E1-4607-A448-5FFC67DB172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546F1-9AF2-42D4-BCC9-5BA9B62D701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D5B9E-D245-4A91-AA6A-858A2BD54F3D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98FF6-F109-4A57-9F8B-50349F17D7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C855F-3798-4118-AE58-AEFAAAD360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w.right2write.co.uk/Images/OCR_logo.gif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15080" y="5423040"/>
            <a:ext cx="2428920" cy="143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healthbenefit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798480"/>
            <a:ext cx="60199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7dd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V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 high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cle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ength res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tress relea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Mor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mmunication / team wor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724280" y="22860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Century Gothic"/>
              </a:rPr>
              <a:t>Neg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mmune system – ope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juries – cruci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rthr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5008320" y="4711680"/>
            <a:ext cx="2837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Century Gothic"/>
              </a:rPr>
              <a:t>Band on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2568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right2write.co.uk/Images/OCR_logo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69000" y="5396040"/>
            <a:ext cx="247500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Gstrength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ed + acceler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lining ball/tim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otwor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ing the b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offering – changing dir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i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ting up a zo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TextBox 4" descr=""/>
          <p:cNvPicPr/>
          <p:nvPr/>
        </p:nvPicPr>
        <p:blipFill>
          <a:blip r:embed="rId11"/>
          <a:stretch/>
        </p:blipFill>
        <p:spPr>
          <a:xfrm>
            <a:off x="4730760" y="371520"/>
            <a:ext cx="3133800" cy="129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gweaknesse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48805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c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e play ball/catch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nd eye co-ord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ke line on C pa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or reaction tim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mina making easier to sco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cking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est pass no pow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TextBox 3" descr=""/>
          <p:cNvPicPr/>
          <p:nvPr/>
        </p:nvPicPr>
        <p:blipFill>
          <a:blip r:embed="rId12"/>
          <a:stretch/>
        </p:blipFill>
        <p:spPr>
          <a:xfrm>
            <a:off x="4809960" y="139680"/>
            <a:ext cx="3133800" cy="1292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13"/>
          <a:stretch/>
        </p:blipFill>
        <p:spPr>
          <a:xfrm>
            <a:off x="3090960" y="981000"/>
            <a:ext cx="615636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GActionplan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5228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Goal: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wer and consistency of chest p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Timescale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4w of 3 x 30 min session per we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Coaching Point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W.  Body weight, ball rotation, transfer of weight, extend arms,1 foot in front of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Drill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 o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irs moving arms as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ing footwork dr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x 2  10 p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x 3  10 p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 + post testing/perce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TextBox 3" descr=""/>
          <p:cNvPicPr/>
          <p:nvPr/>
        </p:nvPicPr>
        <p:blipFill>
          <a:blip r:embed="rId6"/>
          <a:stretch/>
        </p:blipFill>
        <p:spPr>
          <a:xfrm>
            <a:off x="4919760" y="288288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localandnational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59840" cy="933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79812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SFC competition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sports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Club – good coach/co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W high perf – advanced skills/abilities.  Onto England.  Long and short squad. 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 – car wash, bagging, spons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TextBox 3" descr=""/>
          <p:cNvPicPr/>
          <p:nvPr/>
        </p:nvPicPr>
        <p:blipFill>
          <a:blip r:embed="rId8"/>
          <a:stretch/>
        </p:blipFill>
        <p:spPr>
          <a:xfrm>
            <a:off x="4505400" y="4863960"/>
            <a:ext cx="380340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0:06:28Z</dcterms:created>
  <dc:creator>Scott  Chapman</dc:creator>
  <dc:description/>
  <dc:language>en-US</dc:language>
  <cp:lastModifiedBy>harria</cp:lastModifiedBy>
  <dcterms:modified xsi:type="dcterms:W3CDTF">2009-08-12T13:52:29Z</dcterms:modified>
  <cp:revision>13</cp:revision>
  <dc:subject/>
  <dc:title>G452 AS Practical EPIP</dc:title>
</cp:coreProperties>
</file>